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547640" y="19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倒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20000" y="3500280"/>
            <a:ext cx="6667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1678320" y="2242440"/>
            <a:ext cx="290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倒数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或（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826920" y="1557360"/>
            <a:ext cx="471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出下面各数的倒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267000" y="2048040"/>
            <a:ext cx="1892160" cy="778320"/>
            <a:chOff x="3267000" y="2048040"/>
            <a:chExt cx="1892160" cy="778320"/>
          </a:xfrm>
        </p:grpSpPr>
        <p:sp>
          <p:nvSpPr>
            <p:cNvPr id="363" name=""/>
            <p:cNvSpPr/>
            <p:nvPr/>
          </p:nvSpPr>
          <p:spPr>
            <a:xfrm>
              <a:off x="3267000" y="2228760"/>
              <a:ext cx="863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.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54440" y="24033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47960" y="20480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64160" y="2466720"/>
              <a:ext cx="287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91840" y="2698920"/>
            <a:ext cx="2320200" cy="778320"/>
            <a:chOff x="1491840" y="2698920"/>
            <a:chExt cx="2320200" cy="778320"/>
          </a:xfrm>
        </p:grpSpPr>
        <p:sp>
          <p:nvSpPr>
            <p:cNvPr id="368" name="Rectangle 2"/>
            <p:cNvSpPr/>
            <p:nvPr/>
          </p:nvSpPr>
          <p:spPr>
            <a:xfrm>
              <a:off x="1491840" y="2878920"/>
              <a:ext cx="2320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倒数是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1701720" y="2698920"/>
              <a:ext cx="785880" cy="778320"/>
              <a:chOff x="1701720" y="2698920"/>
              <a:chExt cx="785880" cy="778320"/>
            </a:xfrm>
          </p:grpSpPr>
          <p:sp>
            <p:nvSpPr>
              <p:cNvPr id="370" name=""/>
              <p:cNvSpPr/>
              <p:nvPr/>
            </p:nvSpPr>
            <p:spPr>
              <a:xfrm>
                <a:off x="1982880" y="3054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76400" y="2698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01600" y="3117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01720" y="2855880"/>
                <a:ext cx="431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3568680" y="2657520"/>
            <a:ext cx="504720" cy="778680"/>
            <a:chOff x="3568680" y="2657520"/>
            <a:chExt cx="504720" cy="778680"/>
          </a:xfrm>
        </p:grpSpPr>
        <p:sp>
          <p:nvSpPr>
            <p:cNvPr id="375" name=""/>
            <p:cNvSpPr/>
            <p:nvPr/>
          </p:nvSpPr>
          <p:spPr>
            <a:xfrm>
              <a:off x="3568680" y="30132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26575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5280" y="3076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285920" y="4807080"/>
            <a:ext cx="8429760" cy="778320"/>
            <a:chOff x="1285920" y="4807080"/>
            <a:chExt cx="8429760" cy="778320"/>
          </a:xfrm>
        </p:grpSpPr>
        <p:sp>
          <p:nvSpPr>
            <p:cNvPr id="379" name="Rectangle 2"/>
            <p:cNvSpPr/>
            <p:nvPr/>
          </p:nvSpPr>
          <p:spPr>
            <a:xfrm>
              <a:off x="1285920" y="4929120"/>
              <a:ext cx="8429760" cy="5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找        的倒数，先要怎样做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882800" y="4807080"/>
              <a:ext cx="785880" cy="778320"/>
              <a:chOff x="1882800" y="4807080"/>
              <a:chExt cx="785880" cy="778320"/>
            </a:xfrm>
          </p:grpSpPr>
          <p:sp>
            <p:nvSpPr>
              <p:cNvPr id="381" name=""/>
              <p:cNvSpPr/>
              <p:nvPr/>
            </p:nvSpPr>
            <p:spPr>
              <a:xfrm>
                <a:off x="2163960" y="5162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57480" y="4807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82680" y="5225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82800" y="4964040"/>
                <a:ext cx="431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500040" y="4224240"/>
            <a:ext cx="8429760" cy="778680"/>
            <a:chOff x="500040" y="4224240"/>
            <a:chExt cx="8429760" cy="778680"/>
          </a:xfrm>
        </p:grpSpPr>
        <p:sp>
          <p:nvSpPr>
            <p:cNvPr id="386" name="Rectangle 2"/>
            <p:cNvSpPr/>
            <p:nvPr/>
          </p:nvSpPr>
          <p:spPr>
            <a:xfrm>
              <a:off x="500040" y="4357440"/>
              <a:ext cx="8429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想的？（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2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805880" y="4224240"/>
              <a:ext cx="510480" cy="778680"/>
              <a:chOff x="7805880" y="4224240"/>
              <a:chExt cx="510480" cy="778680"/>
            </a:xfrm>
          </p:grpSpPr>
          <p:sp>
            <p:nvSpPr>
              <p:cNvPr id="388" name=""/>
              <p:cNvSpPr/>
              <p:nvPr/>
            </p:nvSpPr>
            <p:spPr>
              <a:xfrm>
                <a:off x="7812000" y="45799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805880" y="422424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21360" y="46432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110484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六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14240" y="1571760"/>
            <a:ext cx="471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口算下面各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85920" y="4319640"/>
            <a:ext cx="164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22400" y="2657520"/>
            <a:ext cx="1444680" cy="778680"/>
            <a:chOff x="1022400" y="2657520"/>
            <a:chExt cx="1444680" cy="778680"/>
          </a:xfrm>
        </p:grpSpPr>
        <p:sp>
          <p:nvSpPr>
            <p:cNvPr id="47" name="Text Box 8"/>
            <p:cNvSpPr/>
            <p:nvPr/>
          </p:nvSpPr>
          <p:spPr>
            <a:xfrm>
              <a:off x="1319400" y="288936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714680" y="2657520"/>
              <a:ext cx="504720" cy="778680"/>
              <a:chOff x="1714680" y="2657520"/>
              <a:chExt cx="504720" cy="778680"/>
            </a:xfrm>
          </p:grpSpPr>
          <p:sp>
            <p:nvSpPr>
              <p:cNvPr id="49" name=""/>
              <p:cNvSpPr/>
              <p:nvPr/>
            </p:nvSpPr>
            <p:spPr>
              <a:xfrm>
                <a:off x="1714680" y="3013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717920" y="26575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33760" y="30765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1022400" y="2657520"/>
              <a:ext cx="504720" cy="778680"/>
              <a:chOff x="1022400" y="2657520"/>
              <a:chExt cx="504720" cy="778680"/>
            </a:xfrm>
          </p:grpSpPr>
          <p:sp>
            <p:nvSpPr>
              <p:cNvPr id="53" name=""/>
              <p:cNvSpPr/>
              <p:nvPr/>
            </p:nvSpPr>
            <p:spPr>
              <a:xfrm>
                <a:off x="1022400" y="3013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25640" y="26575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31760" y="3076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963800" y="280692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12920" y="281628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375000" y="2652840"/>
            <a:ext cx="1577880" cy="778320"/>
            <a:chOff x="3375000" y="2652840"/>
            <a:chExt cx="1577880" cy="778320"/>
          </a:xfrm>
        </p:grpSpPr>
        <p:sp>
          <p:nvSpPr>
            <p:cNvPr id="59" name="Text Box 8"/>
            <p:cNvSpPr/>
            <p:nvPr/>
          </p:nvSpPr>
          <p:spPr>
            <a:xfrm>
              <a:off x="3757680" y="28843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62320" y="300816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79880" y="2652840"/>
              <a:ext cx="581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3240" y="3071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75000" y="30081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63920" y="26528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41600" y="3071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49600" y="280188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719600" y="281160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53040" y="2600280"/>
            <a:ext cx="1181160" cy="778680"/>
            <a:chOff x="6053040" y="2600280"/>
            <a:chExt cx="1181160" cy="778680"/>
          </a:xfrm>
        </p:grpSpPr>
        <p:grpSp>
          <p:nvGrpSpPr>
            <p:cNvPr id="69" name=""/>
            <p:cNvGrpSpPr/>
            <p:nvPr/>
          </p:nvGrpSpPr>
          <p:grpSpPr>
            <a:xfrm>
              <a:off x="6053040" y="2600280"/>
              <a:ext cx="1014480" cy="778680"/>
              <a:chOff x="6053040" y="2600280"/>
              <a:chExt cx="1014480" cy="778680"/>
            </a:xfrm>
          </p:grpSpPr>
          <p:sp>
            <p:nvSpPr>
              <p:cNvPr id="70" name=""/>
              <p:cNvSpPr/>
              <p:nvPr/>
            </p:nvSpPr>
            <p:spPr>
              <a:xfrm>
                <a:off x="6053040" y="2827440"/>
                <a:ext cx="6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557760" y="2600280"/>
                <a:ext cx="509760" cy="778680"/>
                <a:chOff x="6557760" y="2600280"/>
                <a:chExt cx="509760" cy="7786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6562440" y="295596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557760" y="26002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573600" y="30193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6802200" y="2744640"/>
              <a:ext cx="432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032600" y="274464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3600" y="4238640"/>
            <a:ext cx="1454040" cy="778680"/>
            <a:chOff x="993600" y="4238640"/>
            <a:chExt cx="1454040" cy="778680"/>
          </a:xfrm>
        </p:grpSpPr>
        <p:sp>
          <p:nvSpPr>
            <p:cNvPr id="78" name="Text Box 8"/>
            <p:cNvSpPr/>
            <p:nvPr/>
          </p:nvSpPr>
          <p:spPr>
            <a:xfrm>
              <a:off x="1376280" y="447048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3600" y="4594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2520" y="4238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0200" y="4657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44360" y="439740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184480" y="439740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38680" y="437040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872320" y="4149720"/>
            <a:ext cx="1577880" cy="778680"/>
            <a:chOff x="5872320" y="4149720"/>
            <a:chExt cx="1577880" cy="778680"/>
          </a:xfrm>
        </p:grpSpPr>
        <p:sp>
          <p:nvSpPr>
            <p:cNvPr id="86" name="Text Box 8"/>
            <p:cNvSpPr/>
            <p:nvPr/>
          </p:nvSpPr>
          <p:spPr>
            <a:xfrm>
              <a:off x="6255000" y="438156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9640" y="450540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77200" y="4149720"/>
              <a:ext cx="581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40560" y="4568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72320" y="4505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61240" y="41497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38920" y="4568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46920" y="429912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192800" y="429408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40240" y="4210200"/>
            <a:ext cx="1444680" cy="778320"/>
            <a:chOff x="3540240" y="4210200"/>
            <a:chExt cx="1444680" cy="778320"/>
          </a:xfrm>
        </p:grpSpPr>
        <p:sp>
          <p:nvSpPr>
            <p:cNvPr id="96" name="Text Box 8"/>
            <p:cNvSpPr/>
            <p:nvPr/>
          </p:nvSpPr>
          <p:spPr>
            <a:xfrm>
              <a:off x="3837240" y="444168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232520" y="4210200"/>
              <a:ext cx="504720" cy="778320"/>
              <a:chOff x="4232520" y="4210200"/>
              <a:chExt cx="504720" cy="778320"/>
            </a:xfrm>
          </p:grpSpPr>
          <p:sp>
            <p:nvSpPr>
              <p:cNvPr id="98" name=""/>
              <p:cNvSpPr/>
              <p:nvPr/>
            </p:nvSpPr>
            <p:spPr>
              <a:xfrm>
                <a:off x="4232520" y="456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35760" y="4210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51600" y="46288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540240" y="4210200"/>
              <a:ext cx="504720" cy="778320"/>
              <a:chOff x="3540240" y="4210200"/>
              <a:chExt cx="504720" cy="778320"/>
            </a:xfrm>
          </p:grpSpPr>
          <p:sp>
            <p:nvSpPr>
              <p:cNvPr id="102" name=""/>
              <p:cNvSpPr/>
              <p:nvPr/>
            </p:nvSpPr>
            <p:spPr>
              <a:xfrm>
                <a:off x="3540240" y="456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43480" y="42102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49600" y="4628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481640" y="435924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8560" y="4648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740040" y="3141720"/>
            <a:ext cx="1444680" cy="778680"/>
            <a:chOff x="3740040" y="3141720"/>
            <a:chExt cx="1444680" cy="778680"/>
          </a:xfrm>
        </p:grpSpPr>
        <p:sp>
          <p:nvSpPr>
            <p:cNvPr id="109" name="Text Box 8"/>
            <p:cNvSpPr/>
            <p:nvPr/>
          </p:nvSpPr>
          <p:spPr>
            <a:xfrm>
              <a:off x="4037040" y="337356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432320" y="3141720"/>
              <a:ext cx="504720" cy="778680"/>
              <a:chOff x="4432320" y="3141720"/>
              <a:chExt cx="504720" cy="778680"/>
            </a:xfrm>
          </p:grpSpPr>
          <p:sp>
            <p:nvSpPr>
              <p:cNvPr id="111" name=""/>
              <p:cNvSpPr/>
              <p:nvPr/>
            </p:nvSpPr>
            <p:spPr>
              <a:xfrm>
                <a:off x="4432320" y="3497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35560" y="3141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51400" y="3560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740040" y="3141720"/>
              <a:ext cx="504720" cy="778680"/>
              <a:chOff x="3740040" y="3141720"/>
              <a:chExt cx="504720" cy="778680"/>
            </a:xfrm>
          </p:grpSpPr>
          <p:sp>
            <p:nvSpPr>
              <p:cNvPr id="115" name=""/>
              <p:cNvSpPr/>
              <p:nvPr/>
            </p:nvSpPr>
            <p:spPr>
              <a:xfrm>
                <a:off x="3740040" y="3497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43280" y="3141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49400" y="3560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681440" y="329112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214280" y="3378240"/>
            <a:ext cx="164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5280" y="4292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观察上面各题，你有什么发现？（乘积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两个因数的分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分母的位置刚好相反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731880" y="49417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写出几个这样的算式。（反馈交流，教师板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755640" y="53737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能写吗？能写多少个？（板书：无数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观察算式，揭示课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36052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00360" y="2197080"/>
            <a:ext cx="1577880" cy="778680"/>
            <a:chOff x="3600360" y="2197080"/>
            <a:chExt cx="1577880" cy="778680"/>
          </a:xfrm>
        </p:grpSpPr>
        <p:sp>
          <p:nvSpPr>
            <p:cNvPr id="127" name="Text Box 8"/>
            <p:cNvSpPr/>
            <p:nvPr/>
          </p:nvSpPr>
          <p:spPr>
            <a:xfrm>
              <a:off x="3983040" y="24289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87680" y="255276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05240" y="2197080"/>
              <a:ext cx="581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8600" y="2616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00360" y="25527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9280" y="21970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6960" y="26161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74960" y="234648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44960" y="235584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335640" y="2144880"/>
            <a:ext cx="1181160" cy="778320"/>
            <a:chOff x="6335640" y="2144880"/>
            <a:chExt cx="1181160" cy="778320"/>
          </a:xfrm>
        </p:grpSpPr>
        <p:grpSp>
          <p:nvGrpSpPr>
            <p:cNvPr id="137" name=""/>
            <p:cNvGrpSpPr/>
            <p:nvPr/>
          </p:nvGrpSpPr>
          <p:grpSpPr>
            <a:xfrm>
              <a:off x="6335640" y="2144880"/>
              <a:ext cx="1014480" cy="778320"/>
              <a:chOff x="6335640" y="2144880"/>
              <a:chExt cx="1014480" cy="778320"/>
            </a:xfrm>
          </p:grpSpPr>
          <p:sp>
            <p:nvSpPr>
              <p:cNvPr id="138" name=""/>
              <p:cNvSpPr/>
              <p:nvPr/>
            </p:nvSpPr>
            <p:spPr>
              <a:xfrm>
                <a:off x="6335640" y="2371680"/>
                <a:ext cx="6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840360" y="2144880"/>
                <a:ext cx="509760" cy="778320"/>
                <a:chOff x="6840360" y="2144880"/>
                <a:chExt cx="509760" cy="778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845040" y="250020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840360" y="21448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56200" y="256356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7084800" y="2288880"/>
              <a:ext cx="432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43640" y="228924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66840" y="3144960"/>
            <a:ext cx="1454040" cy="778320"/>
            <a:chOff x="1266840" y="3144960"/>
            <a:chExt cx="1454040" cy="778320"/>
          </a:xfrm>
        </p:grpSpPr>
        <p:sp>
          <p:nvSpPr>
            <p:cNvPr id="146" name="Text Box 8"/>
            <p:cNvSpPr/>
            <p:nvPr/>
          </p:nvSpPr>
          <p:spPr>
            <a:xfrm>
              <a:off x="1649520" y="337644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66840" y="35002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5760" y="31449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33440" y="3563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17600" y="330336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457360" y="330372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25880" y="329580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49800" y="3122640"/>
            <a:ext cx="1577880" cy="778680"/>
            <a:chOff x="6049800" y="3122640"/>
            <a:chExt cx="1577880" cy="778680"/>
          </a:xfrm>
        </p:grpSpPr>
        <p:sp>
          <p:nvSpPr>
            <p:cNvPr id="154" name="Text Box 8"/>
            <p:cNvSpPr/>
            <p:nvPr/>
          </p:nvSpPr>
          <p:spPr>
            <a:xfrm>
              <a:off x="6432480" y="335448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37120" y="347832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54680" y="3122640"/>
              <a:ext cx="581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18040" y="35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49800" y="3478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8720" y="31226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6400" y="354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24400" y="3272040"/>
              <a:ext cx="5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370640" y="326700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08240" y="2189160"/>
            <a:ext cx="1443960" cy="778680"/>
            <a:chOff x="1308240" y="2189160"/>
            <a:chExt cx="1443960" cy="778680"/>
          </a:xfrm>
        </p:grpSpPr>
        <p:sp>
          <p:nvSpPr>
            <p:cNvPr id="164" name="Text Box 8"/>
            <p:cNvSpPr/>
            <p:nvPr/>
          </p:nvSpPr>
          <p:spPr>
            <a:xfrm>
              <a:off x="1604880" y="24210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000160" y="2189160"/>
              <a:ext cx="504360" cy="778680"/>
              <a:chOff x="2000160" y="2189160"/>
              <a:chExt cx="504360" cy="778680"/>
            </a:xfrm>
          </p:grpSpPr>
          <p:sp>
            <p:nvSpPr>
              <p:cNvPr id="166" name=""/>
              <p:cNvSpPr/>
              <p:nvPr/>
            </p:nvSpPr>
            <p:spPr>
              <a:xfrm>
                <a:off x="2000160" y="25448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03040" y="21891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18880" y="26082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308240" y="2189160"/>
              <a:ext cx="504360" cy="778680"/>
              <a:chOff x="1308240" y="2189160"/>
              <a:chExt cx="504360" cy="778680"/>
            </a:xfrm>
          </p:grpSpPr>
          <p:sp>
            <p:nvSpPr>
              <p:cNvPr id="170" name=""/>
              <p:cNvSpPr/>
              <p:nvPr/>
            </p:nvSpPr>
            <p:spPr>
              <a:xfrm>
                <a:off x="1308240" y="25448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11120" y="21891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17240" y="26082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49280" y="2338560"/>
              <a:ext cx="502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8560" y="4648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出示概念，加深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95280" y="442116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说说什么是倒数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187280" y="4924440"/>
            <a:ext cx="721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你举例说说，什么是“互为”倒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34880" y="2778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乘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两个数互为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倒数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   和   互为倒数，就是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倒数是   ，   的倒数是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343480" y="2185920"/>
            <a:ext cx="504720" cy="778680"/>
            <a:chOff x="5343480" y="2185920"/>
            <a:chExt cx="504720" cy="778680"/>
          </a:xfrm>
        </p:grpSpPr>
        <p:sp>
          <p:nvSpPr>
            <p:cNvPr id="181" name=""/>
            <p:cNvSpPr/>
            <p:nvPr/>
          </p:nvSpPr>
          <p:spPr>
            <a:xfrm>
              <a:off x="5343480" y="25416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46720" y="21859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62560" y="26049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676760" y="2190600"/>
            <a:ext cx="504720" cy="778680"/>
            <a:chOff x="4676760" y="2190600"/>
            <a:chExt cx="504720" cy="778680"/>
          </a:xfrm>
        </p:grpSpPr>
        <p:sp>
          <p:nvSpPr>
            <p:cNvPr id="185" name=""/>
            <p:cNvSpPr/>
            <p:nvPr/>
          </p:nvSpPr>
          <p:spPr>
            <a:xfrm>
              <a:off x="4676760" y="25462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0000" y="21906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6120" y="26096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22240" y="2781360"/>
            <a:ext cx="504720" cy="778680"/>
            <a:chOff x="822240" y="2781360"/>
            <a:chExt cx="504720" cy="778680"/>
          </a:xfrm>
        </p:grpSpPr>
        <p:sp>
          <p:nvSpPr>
            <p:cNvPr id="189" name=""/>
            <p:cNvSpPr/>
            <p:nvPr/>
          </p:nvSpPr>
          <p:spPr>
            <a:xfrm>
              <a:off x="822240" y="3137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5480" y="2781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600" y="3200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90600" y="2781360"/>
            <a:ext cx="504720" cy="778680"/>
            <a:chOff x="2190600" y="2781360"/>
            <a:chExt cx="504720" cy="778680"/>
          </a:xfrm>
        </p:grpSpPr>
        <p:sp>
          <p:nvSpPr>
            <p:cNvPr id="193" name=""/>
            <p:cNvSpPr/>
            <p:nvPr/>
          </p:nvSpPr>
          <p:spPr>
            <a:xfrm>
              <a:off x="2190600" y="3137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3840" y="2781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3200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87560" y="2790720"/>
            <a:ext cx="504720" cy="778680"/>
            <a:chOff x="2887560" y="2790720"/>
            <a:chExt cx="504720" cy="778680"/>
          </a:xfrm>
        </p:grpSpPr>
        <p:sp>
          <p:nvSpPr>
            <p:cNvPr id="197" name=""/>
            <p:cNvSpPr/>
            <p:nvPr/>
          </p:nvSpPr>
          <p:spPr>
            <a:xfrm>
              <a:off x="2887560" y="3146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0800" y="27907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6640" y="32097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292640" y="2781360"/>
            <a:ext cx="504720" cy="778680"/>
            <a:chOff x="4292640" y="2781360"/>
            <a:chExt cx="504720" cy="778680"/>
          </a:xfrm>
        </p:grpSpPr>
        <p:sp>
          <p:nvSpPr>
            <p:cNvPr id="201" name=""/>
            <p:cNvSpPr/>
            <p:nvPr/>
          </p:nvSpPr>
          <p:spPr>
            <a:xfrm>
              <a:off x="4292640" y="3137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95880" y="2781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02000" y="3200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60" y="4432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自学概念，探究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28760" y="385776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找一个数的倒数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828720" y="2060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面哪两个数互为倒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20760" y="44290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倒数是多少呢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倒数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701720" y="2698920"/>
            <a:ext cx="4468680" cy="820800"/>
            <a:chOff x="1701720" y="2698920"/>
            <a:chExt cx="4468680" cy="820800"/>
          </a:xfrm>
        </p:grpSpPr>
        <p:grpSp>
          <p:nvGrpSpPr>
            <p:cNvPr id="211" name=""/>
            <p:cNvGrpSpPr/>
            <p:nvPr/>
          </p:nvGrpSpPr>
          <p:grpSpPr>
            <a:xfrm>
              <a:off x="1701720" y="2741400"/>
              <a:ext cx="504720" cy="778320"/>
              <a:chOff x="1701720" y="2741400"/>
              <a:chExt cx="504720" cy="77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701720" y="3096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04960" y="2741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11080" y="3160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278080" y="2908080"/>
              <a:ext cx="28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809800" y="2741400"/>
              <a:ext cx="504720" cy="778320"/>
              <a:chOff x="2809800" y="2741400"/>
              <a:chExt cx="504720" cy="778320"/>
            </a:xfrm>
          </p:grpSpPr>
          <p:sp>
            <p:nvSpPr>
              <p:cNvPr id="217" name=""/>
              <p:cNvSpPr/>
              <p:nvPr/>
            </p:nvSpPr>
            <p:spPr>
              <a:xfrm>
                <a:off x="2809800" y="3096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13040" y="2741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19160" y="3160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476520" y="2741400"/>
              <a:ext cx="504720" cy="778320"/>
              <a:chOff x="3476520" y="2741400"/>
              <a:chExt cx="504720" cy="778320"/>
            </a:xfrm>
          </p:grpSpPr>
          <p:sp>
            <p:nvSpPr>
              <p:cNvPr id="221" name=""/>
              <p:cNvSpPr/>
              <p:nvPr/>
            </p:nvSpPr>
            <p:spPr>
              <a:xfrm>
                <a:off x="3476520" y="3096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479760" y="2741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485880" y="3160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154400" y="2741400"/>
              <a:ext cx="504720" cy="778320"/>
              <a:chOff x="4154400" y="2741400"/>
              <a:chExt cx="504720" cy="778320"/>
            </a:xfrm>
          </p:grpSpPr>
          <p:sp>
            <p:nvSpPr>
              <p:cNvPr id="225" name=""/>
              <p:cNvSpPr/>
              <p:nvPr/>
            </p:nvSpPr>
            <p:spPr>
              <a:xfrm>
                <a:off x="4154400" y="3096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57640" y="2741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63760" y="3160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730760" y="2904840"/>
              <a:ext cx="28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306760" y="2698920"/>
              <a:ext cx="504720" cy="778320"/>
              <a:chOff x="5306760" y="2698920"/>
              <a:chExt cx="504720" cy="778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306760" y="3054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10000" y="2698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16120" y="3117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883120" y="2869920"/>
              <a:ext cx="287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42920" y="150012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自学概念，探究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93560" y="50007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说说你是怎样写的？（反馈与交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1071720" y="2357280"/>
            <a:ext cx="471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出下面各数的倒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9280" y="3068640"/>
            <a:ext cx="4459320" cy="811800"/>
            <a:chOff x="1619280" y="3068640"/>
            <a:chExt cx="4459320" cy="811800"/>
          </a:xfrm>
        </p:grpSpPr>
        <p:grpSp>
          <p:nvGrpSpPr>
            <p:cNvPr id="239" name=""/>
            <p:cNvGrpSpPr/>
            <p:nvPr/>
          </p:nvGrpSpPr>
          <p:grpSpPr>
            <a:xfrm>
              <a:off x="2638440" y="3087720"/>
              <a:ext cx="587520" cy="778680"/>
              <a:chOff x="2638440" y="3087720"/>
              <a:chExt cx="587520" cy="778680"/>
            </a:xfrm>
          </p:grpSpPr>
          <p:sp>
            <p:nvSpPr>
              <p:cNvPr id="240" name=""/>
              <p:cNvSpPr/>
              <p:nvPr/>
            </p:nvSpPr>
            <p:spPr>
              <a:xfrm>
                <a:off x="2720880" y="34434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38440" y="3087720"/>
                <a:ext cx="581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701800" y="3506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19280" y="3068640"/>
              <a:ext cx="504720" cy="778680"/>
              <a:chOff x="1619280" y="3068640"/>
              <a:chExt cx="504720" cy="778680"/>
            </a:xfrm>
          </p:grpSpPr>
          <p:sp>
            <p:nvSpPr>
              <p:cNvPr id="244" name=""/>
              <p:cNvSpPr/>
              <p:nvPr/>
            </p:nvSpPr>
            <p:spPr>
              <a:xfrm>
                <a:off x="1619280" y="3424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98480" y="3068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76520" y="3487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610080" y="3265560"/>
              <a:ext cx="57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4622760" y="3102120"/>
              <a:ext cx="504720" cy="778320"/>
              <a:chOff x="4622760" y="3102120"/>
              <a:chExt cx="504720" cy="778320"/>
            </a:xfrm>
          </p:grpSpPr>
          <p:sp>
            <p:nvSpPr>
              <p:cNvPr id="249" name=""/>
              <p:cNvSpPr/>
              <p:nvPr/>
            </p:nvSpPr>
            <p:spPr>
              <a:xfrm>
                <a:off x="4622760" y="3457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26000" y="3102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32120" y="3520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573880" y="3078000"/>
              <a:ext cx="504720" cy="778680"/>
              <a:chOff x="5573880" y="3078000"/>
              <a:chExt cx="504720" cy="778680"/>
            </a:xfrm>
          </p:grpSpPr>
          <p:sp>
            <p:nvSpPr>
              <p:cNvPr id="253" name=""/>
              <p:cNvSpPr/>
              <p:nvPr/>
            </p:nvSpPr>
            <p:spPr>
              <a:xfrm>
                <a:off x="5573880" y="3433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653080" y="3078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31120" y="3497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Rectangle 2"/>
          <p:cNvSpPr/>
          <p:nvPr/>
        </p:nvSpPr>
        <p:spPr>
          <a:xfrm>
            <a:off x="457200" y="3794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93560" y="5229360"/>
            <a:ext cx="62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连一连，说说你是怎样想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4000" y="1557360"/>
            <a:ext cx="60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互为倒数的两个数用线连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16200" y="2363760"/>
            <a:ext cx="719280" cy="2664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79971">
                <a:moveTo>
                  <a:pt x="3600" y="0"/>
                </a:moveTo>
                <a:arcTo wR="3600" hR="3600" stAng="16200000" swAng="-5400000"/>
                <a:lnTo>
                  <a:pt x="0" y="76371"/>
                </a:lnTo>
                <a:arcTo wR="3600" hR="3600" stAng="10800000" swAng="-5400000"/>
                <a:lnTo>
                  <a:pt x="18000" y="79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2349360"/>
            <a:ext cx="718920" cy="2664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80011">
                <a:moveTo>
                  <a:pt x="3600" y="0"/>
                </a:moveTo>
                <a:arcTo wR="3600" hR="3600" stAng="16200000" swAng="-5400000"/>
                <a:lnTo>
                  <a:pt x="0" y="76411"/>
                </a:lnTo>
                <a:arcTo wR="3600" hR="3600" stAng="10800000" swAng="-5400000"/>
                <a:lnTo>
                  <a:pt x="18000" y="80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530360" y="4200480"/>
            <a:ext cx="511200" cy="778680"/>
            <a:chOff x="1530360" y="4200480"/>
            <a:chExt cx="511200" cy="778680"/>
          </a:xfrm>
        </p:grpSpPr>
        <p:sp>
          <p:nvSpPr>
            <p:cNvPr id="263" name=""/>
            <p:cNvSpPr/>
            <p:nvPr/>
          </p:nvSpPr>
          <p:spPr>
            <a:xfrm>
              <a:off x="1536840" y="45561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0360" y="42004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46200" y="46195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846520" y="3279600"/>
            <a:ext cx="586800" cy="778680"/>
            <a:chOff x="2846520" y="3279600"/>
            <a:chExt cx="586800" cy="778680"/>
          </a:xfrm>
        </p:grpSpPr>
        <p:sp>
          <p:nvSpPr>
            <p:cNvPr id="267" name=""/>
            <p:cNvSpPr/>
            <p:nvPr/>
          </p:nvSpPr>
          <p:spPr>
            <a:xfrm>
              <a:off x="2928600" y="36352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6520" y="3279600"/>
              <a:ext cx="58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09520" y="36986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486080" y="2354400"/>
            <a:ext cx="504720" cy="778320"/>
            <a:chOff x="1486080" y="2354400"/>
            <a:chExt cx="504720" cy="778320"/>
          </a:xfrm>
        </p:grpSpPr>
        <p:sp>
          <p:nvSpPr>
            <p:cNvPr id="271" name=""/>
            <p:cNvSpPr/>
            <p:nvPr/>
          </p:nvSpPr>
          <p:spPr>
            <a:xfrm>
              <a:off x="1486080" y="27097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5000" y="23544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52680" y="2773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913120" y="4178160"/>
            <a:ext cx="511200" cy="778680"/>
            <a:chOff x="2913120" y="4178160"/>
            <a:chExt cx="511200" cy="778680"/>
          </a:xfrm>
        </p:grpSpPr>
        <p:sp>
          <p:nvSpPr>
            <p:cNvPr id="275" name=""/>
            <p:cNvSpPr/>
            <p:nvPr/>
          </p:nvSpPr>
          <p:spPr>
            <a:xfrm>
              <a:off x="2919600" y="45338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13120" y="41781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28960" y="45972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57360" y="347508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941560" y="2349360"/>
            <a:ext cx="511200" cy="778680"/>
            <a:chOff x="2941560" y="2349360"/>
            <a:chExt cx="511200" cy="778680"/>
          </a:xfrm>
        </p:grpSpPr>
        <p:sp>
          <p:nvSpPr>
            <p:cNvPr id="280" name=""/>
            <p:cNvSpPr/>
            <p:nvPr/>
          </p:nvSpPr>
          <p:spPr>
            <a:xfrm>
              <a:off x="2948040" y="2705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41560" y="2349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57400" y="2768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856120" y="2349360"/>
            <a:ext cx="719280" cy="2664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79971">
                <a:moveTo>
                  <a:pt x="3600" y="0"/>
                </a:moveTo>
                <a:arcTo wR="3600" hR="3600" stAng="16200000" swAng="-5400000"/>
                <a:lnTo>
                  <a:pt x="0" y="76371"/>
                </a:lnTo>
                <a:arcTo wR="3600" hR="3600" stAng="10800000" swAng="-5400000"/>
                <a:lnTo>
                  <a:pt x="18000" y="799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00720" y="2349360"/>
            <a:ext cx="718920" cy="2664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80011">
                <a:moveTo>
                  <a:pt x="3600" y="0"/>
                </a:moveTo>
                <a:arcTo wR="3600" hR="3600" stAng="16200000" swAng="-5400000"/>
                <a:lnTo>
                  <a:pt x="0" y="76411"/>
                </a:lnTo>
                <a:arcTo wR="3600" hR="3600" stAng="10800000" swAng="-5400000"/>
                <a:lnTo>
                  <a:pt x="18000" y="800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26000" y="2354400"/>
            <a:ext cx="504720" cy="778320"/>
            <a:chOff x="4626000" y="2354400"/>
            <a:chExt cx="504720" cy="778320"/>
          </a:xfrm>
        </p:grpSpPr>
        <p:sp>
          <p:nvSpPr>
            <p:cNvPr id="286" name=""/>
            <p:cNvSpPr/>
            <p:nvPr/>
          </p:nvSpPr>
          <p:spPr>
            <a:xfrm>
              <a:off x="4626000" y="27097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33920" y="235440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92600" y="2773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43560" y="3456000"/>
            <a:ext cx="637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905440" y="2349360"/>
            <a:ext cx="714240" cy="778680"/>
            <a:chOff x="5905440" y="2349360"/>
            <a:chExt cx="714240" cy="778680"/>
          </a:xfrm>
        </p:grpSpPr>
        <p:sp>
          <p:nvSpPr>
            <p:cNvPr id="291" name=""/>
            <p:cNvSpPr/>
            <p:nvPr/>
          </p:nvSpPr>
          <p:spPr>
            <a:xfrm>
              <a:off x="5905440" y="2705040"/>
              <a:ext cx="714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62760" y="2349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0440" y="2768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979960" y="3274920"/>
            <a:ext cx="504720" cy="778680"/>
            <a:chOff x="5979960" y="3274920"/>
            <a:chExt cx="504720" cy="778680"/>
          </a:xfrm>
        </p:grpSpPr>
        <p:sp>
          <p:nvSpPr>
            <p:cNvPr id="295" name=""/>
            <p:cNvSpPr/>
            <p:nvPr/>
          </p:nvSpPr>
          <p:spPr>
            <a:xfrm>
              <a:off x="5979960" y="36306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7880" y="327492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46560" y="3693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629240" y="4164120"/>
            <a:ext cx="504720" cy="778320"/>
            <a:chOff x="4629240" y="4164120"/>
            <a:chExt cx="504720" cy="778320"/>
          </a:xfrm>
        </p:grpSpPr>
        <p:sp>
          <p:nvSpPr>
            <p:cNvPr id="299" name=""/>
            <p:cNvSpPr/>
            <p:nvPr/>
          </p:nvSpPr>
          <p:spPr>
            <a:xfrm>
              <a:off x="4629240" y="45194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37160" y="416412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95840" y="4582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981760" y="4154400"/>
            <a:ext cx="504720" cy="778680"/>
            <a:chOff x="5981760" y="4154400"/>
            <a:chExt cx="504720" cy="778680"/>
          </a:xfrm>
        </p:grpSpPr>
        <p:sp>
          <p:nvSpPr>
            <p:cNvPr id="303" name=""/>
            <p:cNvSpPr/>
            <p:nvPr/>
          </p:nvSpPr>
          <p:spPr>
            <a:xfrm>
              <a:off x="5981760" y="4510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89680" y="4154400"/>
              <a:ext cx="47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48360" y="45734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33400" y="1413000"/>
            <a:ext cx="66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的说法对不对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     与     的乘积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所以      和     互为倒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87680" y="1944720"/>
            <a:ext cx="504720" cy="778680"/>
            <a:chOff x="1687680" y="1944720"/>
            <a:chExt cx="504720" cy="778680"/>
          </a:xfrm>
        </p:grpSpPr>
        <p:sp>
          <p:nvSpPr>
            <p:cNvPr id="308" name=""/>
            <p:cNvSpPr/>
            <p:nvPr/>
          </p:nvSpPr>
          <p:spPr>
            <a:xfrm>
              <a:off x="1687680" y="2300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76600" y="19447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54280" y="23637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316240" y="1951200"/>
            <a:ext cx="586800" cy="778320"/>
            <a:chOff x="2316240" y="1951200"/>
            <a:chExt cx="586800" cy="778320"/>
          </a:xfrm>
        </p:grpSpPr>
        <p:sp>
          <p:nvSpPr>
            <p:cNvPr id="312" name=""/>
            <p:cNvSpPr/>
            <p:nvPr/>
          </p:nvSpPr>
          <p:spPr>
            <a:xfrm>
              <a:off x="2398320" y="23065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16240" y="1951200"/>
              <a:ext cx="58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79240" y="23698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648320" y="1946160"/>
            <a:ext cx="504720" cy="778680"/>
            <a:chOff x="4648320" y="1946160"/>
            <a:chExt cx="504720" cy="778680"/>
          </a:xfrm>
        </p:grpSpPr>
        <p:sp>
          <p:nvSpPr>
            <p:cNvPr id="316" name=""/>
            <p:cNvSpPr/>
            <p:nvPr/>
          </p:nvSpPr>
          <p:spPr>
            <a:xfrm>
              <a:off x="4648320" y="23018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37240" y="19461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14920" y="2365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95960" y="1952640"/>
            <a:ext cx="586800" cy="778680"/>
            <a:chOff x="5295960" y="1952640"/>
            <a:chExt cx="586800" cy="778680"/>
          </a:xfrm>
        </p:grpSpPr>
        <p:sp>
          <p:nvSpPr>
            <p:cNvPr id="320" name=""/>
            <p:cNvSpPr/>
            <p:nvPr/>
          </p:nvSpPr>
          <p:spPr>
            <a:xfrm>
              <a:off x="5378040" y="2308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95960" y="1952640"/>
              <a:ext cx="580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58960" y="2371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068480" y="3973680"/>
            <a:ext cx="457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一个数的倒数一定比这个数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792440" y="2665440"/>
            <a:ext cx="4600440" cy="802440"/>
            <a:chOff x="1792440" y="2665440"/>
            <a:chExt cx="4600440" cy="802440"/>
          </a:xfrm>
        </p:grpSpPr>
        <p:sp>
          <p:nvSpPr>
            <p:cNvPr id="325" name=""/>
            <p:cNvSpPr/>
            <p:nvPr/>
          </p:nvSpPr>
          <p:spPr>
            <a:xfrm>
              <a:off x="2221560" y="2851200"/>
              <a:ext cx="4070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所以   、   、  互为倒数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792440" y="2689200"/>
              <a:ext cx="2151000" cy="778680"/>
              <a:chOff x="1792440" y="2689200"/>
              <a:chExt cx="2151000" cy="778680"/>
            </a:xfrm>
          </p:grpSpPr>
          <p:sp>
            <p:nvSpPr>
              <p:cNvPr id="327" name="Text Box 8"/>
              <p:cNvSpPr/>
              <p:nvPr/>
            </p:nvSpPr>
            <p:spPr>
              <a:xfrm>
                <a:off x="2089440" y="2921040"/>
                <a:ext cx="33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2484720" y="2689200"/>
                <a:ext cx="504720" cy="778680"/>
                <a:chOff x="2484720" y="2689200"/>
                <a:chExt cx="504720" cy="7786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484720" y="30448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487960" y="26892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03800" y="31082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792440" y="2689200"/>
                <a:ext cx="504720" cy="778680"/>
                <a:chOff x="1792440" y="2689200"/>
                <a:chExt cx="504720" cy="778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792440" y="30448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95680" y="26892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801800" y="31082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2733840" y="2838600"/>
                <a:ext cx="503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3097440" y="2689200"/>
                <a:ext cx="504720" cy="778680"/>
                <a:chOff x="3097440" y="2689200"/>
                <a:chExt cx="504720" cy="7786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097440" y="30448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100680" y="26892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116520" y="31082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3348360" y="2836800"/>
                <a:ext cx="59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730760" y="2670120"/>
              <a:ext cx="504720" cy="778680"/>
              <a:chOff x="4730760" y="2670120"/>
              <a:chExt cx="504720" cy="778680"/>
            </a:xfrm>
          </p:grpSpPr>
          <p:sp>
            <p:nvSpPr>
              <p:cNvPr id="343" name=""/>
              <p:cNvSpPr/>
              <p:nvPr/>
            </p:nvSpPr>
            <p:spPr>
              <a:xfrm>
                <a:off x="4730760" y="3025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34000" y="2670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40120" y="3089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5305320" y="2670120"/>
              <a:ext cx="504720" cy="778680"/>
              <a:chOff x="5305320" y="2670120"/>
              <a:chExt cx="504720" cy="778680"/>
            </a:xfrm>
          </p:grpSpPr>
          <p:sp>
            <p:nvSpPr>
              <p:cNvPr id="347" name=""/>
              <p:cNvSpPr/>
              <p:nvPr/>
            </p:nvSpPr>
            <p:spPr>
              <a:xfrm>
                <a:off x="5305320" y="3025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8560" y="2670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24400" y="30891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888160" y="2665440"/>
              <a:ext cx="504720" cy="778680"/>
              <a:chOff x="5888160" y="2665440"/>
              <a:chExt cx="504720" cy="778680"/>
            </a:xfrm>
          </p:grpSpPr>
          <p:sp>
            <p:nvSpPr>
              <p:cNvPr id="351" name=""/>
              <p:cNvSpPr/>
              <p:nvPr/>
            </p:nvSpPr>
            <p:spPr>
              <a:xfrm>
                <a:off x="5888160" y="3021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91400" y="2665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7240" y="30844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1413360" y="3500280"/>
            <a:ext cx="1959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倒数还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14360" y="4357800"/>
            <a:ext cx="8825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你认为谁说得对，说明你的理由。（小红说得对。乘积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两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就互为倒数，这两个数可以是分数，也可以是小数或整数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7553160" cy="1800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28720" y="1560600"/>
            <a:ext cx="453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红和小亮谁说得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9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